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11.gif" ContentType="image/gif"/>
  <Override PartName="/ppt/media/image14.png" ContentType="image/png"/>
  <Override PartName="/ppt/media/image10.wmf" ContentType="image/x-wmf"/>
  <Override PartName="/ppt/media/image2.png" ContentType="image/png"/>
  <Override PartName="/ppt/media/image22.gif" ContentType="image/gif"/>
  <Override PartName="/ppt/media/image9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28.gif" ContentType="image/gif"/>
  <Override PartName="/ppt/media/image6.jpeg" ContentType="image/jpeg"/>
  <Override PartName="/ppt/media/image26.wmf" ContentType="image/x-wmf"/>
  <Override PartName="/ppt/media/image4.png" ContentType="image/png"/>
  <Override PartName="/ppt/media/image27.png" ContentType="image/png"/>
  <Override PartName="/ppt/media/image25.wmf" ContentType="image/x-wmf"/>
  <Override PartName="/ppt/media/image24.wmf" ContentType="image/x-wmf"/>
  <Override PartName="/ppt/media/image23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jpeg" ContentType="image/jpeg"/>
  <Override PartName="/ppt/media/image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8619-BD83-46B4-AF9C-D519D1122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690B-BE58-498D-9D62-CABA3E68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9501-04EB-434D-A9EA-4186BF2F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202B-FEF7-4994-B02A-66BFB81BE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CB15-A050-4178-AD77-96C72DC45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7674-C0BD-4F84-92EC-2F016FE8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92B8-F630-485F-8274-FB529D01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57C4-DCF6-4D49-ABDE-B11E4DCC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4604-5EE6-44B0-997D-5D79C1B7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9C75-00E6-4D17-BFC7-6CDCED26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29CA-9C7B-46CB-ADBC-A23A3FC0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EA5B-96F8-4B32-AC02-E920E37B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EC2F-2834-40FE-BDEB-6C8AAEBF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7149-6F19-4D13-BAD8-89A60A58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4D52-F247-41B2-BBAE-A9CD762F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3BE9-2735-46CD-90A0-0914D4EF5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B83B-1C17-4D85-8719-D9339D8B1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539F8-799A-4C32-837B-7C7AD2EC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3955C-0A51-4EDB-8C2F-3D2B555E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2A405-D83F-4020-8AFE-E45F7080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8BB57-9F98-4F96-970C-920D9AF9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A1F3A-3FBB-4DF7-8C2C-D6CFEBB4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0A1F-76BF-46CF-9099-2DD95A06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8B471-962B-4C30-AC04-80F107E4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C8F6D-49B7-4081-81FC-A0231FF4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0F5CA-D628-48F1-9D02-CFCA8356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ED065-2963-46AE-A2BB-EF2E04E2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6703C-3C08-45D5-B196-CFDD9436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81695-8816-4669-94E6-5E168CBE7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A9045-D3DC-438E-815C-8C55484ED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E8B3A-7AE5-4200-AF18-D4C2828F5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AAFD4-857B-4E84-9A22-319EDC6C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B2492-C9DA-4B15-AEA7-40A3B30F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DF64-DBA0-4F24-A8EE-D77705B7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B872C-8BE9-4450-B925-8808784F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751B1-38B7-4157-91E8-E0AA2987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150D1-DEC6-41EB-A1BC-07BC62D4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026E3-80A7-4B9F-A892-EB1B3146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60F06-C2BE-4951-BD9B-310B2693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66622-FD74-41E2-B863-A29C713E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65447-6E52-4B9B-B97E-1C8E7175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356B4-2A55-4000-BA7B-8EC1942FA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CD252-733E-4720-B93C-A275437CF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553D1-4C73-438B-9103-2CD53AA80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ECDB-1F26-41FA-A633-DAEA7C56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7342B-7F23-466E-A540-A8DBB323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7C094-2712-4157-AD86-D77F9638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810CC-C550-4DE0-843E-A17D0484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A8F3A-D67F-4EAE-A230-27D71A60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F201B-C18B-423F-BE3A-1B947AF9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A8E05-D413-4F41-A4B2-56F1E573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90DFE-BC32-4D9F-A63C-ACD0AFCA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2FBB6-4334-4559-AFB4-9FB0B946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D1083-EA7A-4115-8F1C-280CCF1E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BBBFD-A15E-469A-A984-2BBD65E60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DA56-676A-4B75-879E-920534BD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630B2-A580-4844-9531-B23C43601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B5BB0-655B-4D6B-8A3B-389C8E028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48915-F0F6-4D6E-8F44-D5CB2417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C43BE-4ED1-4588-A349-E5FF751F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DE183-1DDB-481B-9A52-AABF6643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C78FC-CAE8-41A7-B18B-FD776F28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55E02-10B6-4BBB-9D45-E608C53D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2D885-6A7D-4186-94F9-2E7CC26E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AFF0C-89F7-4FAB-9345-257EBF9D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F210B-A3C8-420A-97E7-766AB9D1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39A9-754B-4EF8-9001-4F13FA30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F2FBB-9CD6-44AC-A022-C8158E75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D1200-17AF-4B96-9992-A77078B3B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EB0F1-AB63-4D24-8E66-53F8FD056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228C2-95AD-4FE8-A30D-7D1EFD3F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EB2C9-4790-43CB-BD6E-85025A53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7B60A-CA38-4F56-A330-E4143CCE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AC497-D76A-4F83-8030-B939CC08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A6E5B-E1A2-4557-B3B3-939E90B7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02E3F-2A2E-4D29-8FAC-13D4AB95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77168-F5DB-4A01-A673-4D683D7C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5EF3-6F4E-45FF-AA22-08C9D288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E57D6-9793-4202-AC34-868AF967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C39BC-3A79-4226-90D8-4664F2C7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66AB5-C72A-4EE9-AA82-E3651533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6601C-DE96-4911-B0E0-B8497803E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308DB-BEFC-42CF-9842-D1AC4A3C7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CE64C-8159-4A1C-93CB-197FA278C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A48D3-3BC8-4B65-8D20-A9B6F31F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52FFB-30CB-4917-AC51-01E6DC5F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4F908-76D6-46EA-84E3-B4F148C0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14D4A-0619-4C88-8C49-6CAD5856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6DD2-8209-42C5-A6CE-ED492048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09351-352B-4C9C-BBED-0127F199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339A1-AAE5-43CA-8990-7E9EB7BF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85245-9DA3-4175-AD51-6BB83E15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04F16-1AAF-4EC4-9CE6-28D797C9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ABAF9-1691-49B9-869D-377C5441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9C300-FB30-4C3A-81B0-7D682AE09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0D598-BD02-4DA4-BE04-C88A187FE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014E-879C-46BD-A682-1C629927A3F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B11B-3147-4B0C-9CA3-D1F4979417F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2686-3AEA-405F-A7DB-F042DA50751D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3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1726-E965-484D-8F57-17AE3CC8414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8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279E-6061-4A09-8F8D-062C71D912F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4B2D-2622-4C73-800C-7F76BFF5F61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ADA8-26D9-4CF8-A104-FA74437FFD6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281A-C16C-4D10-A8F5-491FF2F83878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633240" y="895320"/>
            <a:ext cx="8321760" cy="25797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9" descr="a1"/>
          <p:cNvPicPr/>
          <p:nvPr/>
        </p:nvPicPr>
        <p:blipFill>
          <a:blip r:embed="rId2"/>
          <a:stretch/>
        </p:blipFill>
        <p:spPr>
          <a:xfrm>
            <a:off x="1063800" y="3500280"/>
            <a:ext cx="2936880" cy="3016440"/>
          </a:xfrm>
          <a:prstGeom prst="rect">
            <a:avLst/>
          </a:prstGeom>
          <a:ln w="0">
            <a:noFill/>
          </a:ln>
        </p:spPr>
      </p:pic>
      <p:sp>
        <p:nvSpPr>
          <p:cNvPr id="361" name="Дата 4"/>
          <p:cNvSpPr/>
          <p:nvPr/>
        </p:nvSpPr>
        <p:spPr>
          <a:xfrm>
            <a:off x="2286000" y="500040"/>
            <a:ext cx="3276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eaee"/>
                </a:solidFill>
                <a:latin typeface="Times New Roman"/>
                <a:ea typeface="Times New Roman"/>
              </a:rPr>
              <a:t>24 октября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5"/>
          <p:cNvSpPr/>
          <p:nvPr/>
        </p:nvSpPr>
        <p:spPr>
          <a:xfrm>
            <a:off x="3929040" y="457200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«Чердынская СОШ им. А. Спирина», учитель: Светлана Владимировна Била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Овал 1"/>
          <p:cNvGrpSpPr/>
          <p:nvPr/>
        </p:nvGrpSpPr>
        <p:grpSpPr>
          <a:xfrm>
            <a:off x="1427040" y="2889360"/>
            <a:ext cx="792360" cy="792000"/>
            <a:chOff x="1427040" y="2889360"/>
            <a:chExt cx="792360" cy="792000"/>
          </a:xfrm>
        </p:grpSpPr>
        <p:pic>
          <p:nvPicPr>
            <p:cNvPr id="396" name="Овал 1" descr=""/>
            <p:cNvPicPr/>
            <p:nvPr/>
          </p:nvPicPr>
          <p:blipFill>
            <a:blip r:embed="rId1"/>
            <a:stretch/>
          </p:blipFill>
          <p:spPr>
            <a:xfrm>
              <a:off x="1427040" y="2889360"/>
              <a:ext cx="7923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1593720" y="3022560"/>
              <a:ext cx="4557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27 0.01342 C 0.09254 -0.10777 0.1658 -0.21299 0.26406 -0.22016 C 0.35799 -0.22918 0.44584 -0.14778 0.45174 -0.03006 C 0.4592 0.0784 0.39757 0.17993 0.30938 0.1871 C 0.229 0.19265 0.15261 0.12558 0.1467 0.02429 C 0.1408 -0.06799 0.19219 -0.15494 0.26684 -0.16211 C 0.33594 -0.16743 0.40052 -0.11124 0.40486 -0.02659 C 0.4092 0.0495 0.36823 0.1235 0.3066 0.12766 C 0.25087 0.13298 0.19809 0.08927 0.19358 0.02059 C 0.1908 -0.04093 0.22153 -0.1006 0.26997 -0.10407 C 0.3125 -0.10777 0.35504 -0.07516 0.35799 -0.02266 C 0.36077 0.02244 0.33889 0.06568 0.30347 0.06962 C 0.27431 0.07285 0.2434 0.0532 0.24184 0.01712 C 0.23906 -0.01202 0.25087 -0.04278 0.27275 -0.04625 C 0.29063 -0.04625 0.30816 -0.03908 0.31094 -0.01942 C 0.3125 -0.00647 0.30938 0.00602 0.3007 0.01134 C 0.29636 0.01342 0.2934 0.01342 0.28906 0.01134 E">
                                      <p:cBhvr>
                                        <p:cTn id="86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Овал 4"/>
          <p:cNvSpPr/>
          <p:nvPr/>
        </p:nvSpPr>
        <p:spPr>
          <a:xfrm>
            <a:off x="3581280" y="1828800"/>
            <a:ext cx="990720" cy="838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2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84 -0.13321 C 0.1007 -0.13321 0.16667 -0.07332 0.16667 -0.00024 C 0.16667 0.08649 0.09375 0.11748 0.04966 0.13066 L -0.0085 0.14431 C -0.05208 0.15749 -0.125 0.19079 -0.125 0.28839 C -0.125 0.3506 -0.05955 0.42183 0.02084 0.42183 C 0.1007 0.42183 0.16667 0.3506 0.16667 0.28839 C 0.16667 0.19079 0.09375 0.15749 0.04966 0.14431 L -0.0085 0.13066 C -0.05208 0.11748 -0.125 0.08649 -0.125 -0.00024 C -0.125 -0.07332 -0.05955 -0.13321 0.02084 -0.13321 Z">
                                      <p:cBhvr>
                                        <p:cTn id="92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401" name="Овал 3"/>
          <p:cNvSpPr/>
          <p:nvPr/>
        </p:nvSpPr>
        <p:spPr>
          <a:xfrm>
            <a:off x="3733920" y="2438280"/>
            <a:ext cx="685800" cy="685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25 -0.00555 L -0.26389 0.38298 L -0.2177 -0.00555 L -0.16857 0.38298 L -0.11961 -0.00555 L -0.07395 0.38298 L -0.02465 -0.00555 L 0.02153 0.38298 L 0.07084 -0.00555 L 0.11945 0.38298 L 0.16563 -0.00555 L 0.21476 0.38298 L 0.26042 -0.00555 L 0.30938 0.38298 L 0.35868 -0.00555 L 0.40486 0.38298 L 0.45417 -0.00555 E">
                                      <p:cBhvr>
                                        <p:cTn id="98" dur="5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Работа на компьютере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03" name="Picture 4" descr="C:\Documents and Settings\Пользователь\Рабочий стол\с1.jpg"/>
          <p:cNvPicPr/>
          <p:nvPr/>
        </p:nvPicPr>
        <p:blipFill>
          <a:blip r:embed="rId1"/>
          <a:stretch/>
        </p:blipFill>
        <p:spPr>
          <a:xfrm>
            <a:off x="1928880" y="2286000"/>
            <a:ext cx="4429080" cy="442908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1"/>
          <a:srcRect l="5628" t="5484" r="9664" b="41168"/>
          <a:stretch/>
        </p:blipFill>
        <p:spPr>
          <a:xfrm>
            <a:off x="1214280" y="857160"/>
            <a:ext cx="6864480" cy="5538960"/>
          </a:xfrm>
          <a:prstGeom prst="rect">
            <a:avLst/>
          </a:prstGeom>
          <a:ln w="0">
            <a:noFill/>
          </a:ln>
        </p:spPr>
      </p:pic>
      <p:sp>
        <p:nvSpPr>
          <p:cNvPr id="406" name="TextBox 2"/>
          <p:cNvSpPr/>
          <p:nvPr/>
        </p:nvSpPr>
        <p:spPr>
          <a:xfrm>
            <a:off x="2428920" y="500076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З В У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3"/>
          <p:cNvSpPr/>
          <p:nvPr/>
        </p:nvSpPr>
        <p:spPr>
          <a:xfrm>
            <a:off x="4286160" y="500076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З Н 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4"/>
          <p:cNvSpPr/>
          <p:nvPr/>
        </p:nvSpPr>
        <p:spPr>
          <a:xfrm>
            <a:off x="6215040" y="50007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М Ы Ш 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5"/>
          <p:cNvSpPr/>
          <p:nvPr/>
        </p:nvSpPr>
        <p:spPr>
          <a:xfrm>
            <a:off x="1928880" y="5929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 О С И Т Е Л 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6"/>
          <p:cNvSpPr/>
          <p:nvPr/>
        </p:nvSpPr>
        <p:spPr>
          <a:xfrm>
            <a:off x="3857760" y="5929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Д И С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7"/>
          <p:cNvSpPr/>
          <p:nvPr/>
        </p:nvSpPr>
        <p:spPr>
          <a:xfrm>
            <a:off x="5857920" y="5929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А З Б У К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4" descr="j0397224"/>
          <p:cNvPicPr/>
          <p:nvPr/>
        </p:nvPicPr>
        <p:blipFill>
          <a:blip r:embed="rId1"/>
          <a:stretch/>
        </p:blipFill>
        <p:spPr>
          <a:xfrm>
            <a:off x="7286760" y="5214960"/>
            <a:ext cx="1611000" cy="131616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652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лавное, что мы должны понять и запомнит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2499840"/>
            <a:ext cx="822960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кодирование – действие с информацией, обратное кодировани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кодированное сообщение можно декодировать, если известно правило кодирования или имеется кодировочная таблиц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нформацию, которая содержится в закодированном сообщении, человек может получить, только декодировав ег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5" name="Picture 5" descr="j0397202"/>
          <p:cNvPicPr/>
          <p:nvPr/>
        </p:nvPicPr>
        <p:blipFill>
          <a:blip r:embed="rId2"/>
          <a:stretch/>
        </p:blipFill>
        <p:spPr>
          <a:xfrm rot="13644600">
            <a:off x="7907760" y="4469040"/>
            <a:ext cx="1082520" cy="890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10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8" name="Picture 4" descr="j0410909"/>
          <p:cNvPicPr/>
          <p:nvPr/>
        </p:nvPicPr>
        <p:blipFill>
          <a:blip r:embed="rId1"/>
          <a:stretch/>
        </p:blipFill>
        <p:spPr>
          <a:xfrm>
            <a:off x="3000240" y="2786040"/>
            <a:ext cx="3600720" cy="290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Calibri"/>
              </a:rPr>
              <a:t>Попробуйте дополнить предлож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Сегодня на уроке я узнал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не было интересно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не было трудно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Теперь я могу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егодня я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научился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У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меня получилось 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Я попробую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еня удивило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не захотелось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22" name="Прямоугольник 3" descr=""/>
          <p:cNvPicPr/>
          <p:nvPr/>
        </p:nvPicPr>
        <p:blipFill>
          <a:blip r:embed="rId1"/>
          <a:stretch/>
        </p:blipFill>
        <p:spPr>
          <a:xfrm>
            <a:off x="633240" y="2225520"/>
            <a:ext cx="7907400" cy="12560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C:\Documents and Settings\Пользователь\Рабочий стол\с2.jpg"/>
          <p:cNvPicPr/>
          <p:nvPr/>
        </p:nvPicPr>
        <p:blipFill>
          <a:blip r:embed="rId2"/>
          <a:stretch/>
        </p:blipFill>
        <p:spPr>
          <a:xfrm>
            <a:off x="3357720" y="3571920"/>
            <a:ext cx="2581200" cy="2774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4617b"/>
                </a:solidFill>
                <a:latin typeface="Calibri"/>
              </a:rPr>
              <a:t>Вспомни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чем люди кодируют информацию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ие способы кодирования ты знаеш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меняется ли смысл сообщения при кодировани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каком виде информация запоминается в памяти компьютер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5" name="Picture 5" descr="BD05012_"/>
          <p:cNvPicPr/>
          <p:nvPr/>
        </p:nvPicPr>
        <p:blipFill>
          <a:blip r:embed="rId1"/>
          <a:stretch/>
        </p:blipFill>
        <p:spPr>
          <a:xfrm>
            <a:off x="6715080" y="4572000"/>
            <a:ext cx="1779480" cy="1555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4617b"/>
                </a:solidFill>
                <a:latin typeface="Calibri"/>
              </a:rPr>
              <a:t>Автогонки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67" name="Picture 2" descr="C:\Documents and Settings\Пользователь\Рабочий стол\с3.jpg"/>
          <p:cNvPicPr/>
          <p:nvPr/>
        </p:nvPicPr>
        <p:blipFill>
          <a:blip r:embed="rId1"/>
          <a:stretch/>
        </p:blipFill>
        <p:spPr>
          <a:xfrm>
            <a:off x="428760" y="2000160"/>
            <a:ext cx="2643120" cy="21672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C:\Documents and Settings\Пользователь\Рабочий стол\с4.gif"/>
          <p:cNvPicPr/>
          <p:nvPr/>
        </p:nvPicPr>
        <p:blipFill>
          <a:blip r:embed="rId2"/>
          <a:stretch/>
        </p:blipFill>
        <p:spPr>
          <a:xfrm>
            <a:off x="2071800" y="3929040"/>
            <a:ext cx="6762600" cy="2536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6" descr="j0210200"/>
          <p:cNvPicPr/>
          <p:nvPr/>
        </p:nvPicPr>
        <p:blipFill>
          <a:blip r:embed="rId1"/>
          <a:stretch/>
        </p:blipFill>
        <p:spPr>
          <a:xfrm>
            <a:off x="920880" y="281160"/>
            <a:ext cx="7016760" cy="621648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1071720" y="2071800"/>
            <a:ext cx="69292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екодирование – это действие с информацией, обратное кодировани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екодирование – это, как и кодирование, изменение формы представления информации без изменения смысл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071720" y="1143000"/>
            <a:ext cx="6818040" cy="23162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1357200" y="3571920"/>
            <a:ext cx="6261120" cy="2438280"/>
          </a:xfrm>
          <a:prstGeom prst="rect">
            <a:avLst/>
          </a:prstGeom>
          <a:ln w="0">
            <a:noFill/>
          </a:ln>
        </p:spPr>
      </p:pic>
      <p:cxnSp>
        <p:nvCxnSpPr>
          <p:cNvPr id="373" name="Прямая со стрелкой 8"/>
          <p:cNvCxnSpPr/>
          <p:nvPr/>
        </p:nvCxnSpPr>
        <p:spPr>
          <a:xfrm>
            <a:off x="4143240" y="4428720"/>
            <a:ext cx="157248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4" name="Прямая со стрелкой 10"/>
          <p:cNvCxnSpPr/>
          <p:nvPr/>
        </p:nvCxnSpPr>
        <p:spPr>
          <a:xfrm>
            <a:off x="4143240" y="4857840"/>
            <a:ext cx="1572480" cy="3578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5" name="Прямая со стрелкой 12"/>
          <p:cNvCxnSpPr/>
          <p:nvPr/>
        </p:nvCxnSpPr>
        <p:spPr>
          <a:xfrm>
            <a:off x="4143240" y="5214600"/>
            <a:ext cx="1572480" cy="42948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376" name="Прямая со стрелкой 14"/>
          <p:cNvCxnSpPr/>
          <p:nvPr/>
        </p:nvCxnSpPr>
        <p:spPr>
          <a:xfrm flipV="1">
            <a:off x="4143240" y="4785840"/>
            <a:ext cx="1572480" cy="8582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Лента лицом вверх 4"/>
          <p:cNvSpPr/>
          <p:nvPr/>
        </p:nvSpPr>
        <p:spPr>
          <a:xfrm>
            <a:off x="500040" y="5072040"/>
            <a:ext cx="8001000" cy="785880"/>
          </a:xfrm>
          <a:custGeom>
            <a:avLst/>
            <a:gdLst>
              <a:gd name="textAreaLeft" fmla="*/ 1320480 w 8001000"/>
              <a:gd name="textAreaRight" fmla="*/ 6680520 w 8001000"/>
              <a:gd name="textAreaTop" fmla="*/ 0 h 785880"/>
              <a:gd name="textAreaBottom" fmla="*/ 655200 h 785880"/>
            </a:gdLst>
            <a:ahLst/>
            <a:rect l="textAreaLeft" t="textAreaTop" r="textAreaRight" b="textAreaBottom"/>
            <a:pathLst>
              <a:path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1150"/>
                  <a:pt x="5845" y="21600"/>
                  <a:pt x="5425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3565" y="3600"/>
                </a:lnTo>
                <a:lnTo>
                  <a:pt x="3565" y="900"/>
                </a:lnTo>
                <a:cubicBezTo>
                  <a:pt x="3565" y="450"/>
                  <a:pt x="3985" y="0"/>
                  <a:pt x="4405" y="0"/>
                </a:cubicBezTo>
                <a:lnTo>
                  <a:pt x="17195" y="0"/>
                </a:lnTo>
                <a:cubicBezTo>
                  <a:pt x="17615" y="0"/>
                  <a:pt x="18035" y="450"/>
                  <a:pt x="18035" y="900"/>
                </a:cubicBezTo>
                <a:lnTo>
                  <a:pt x="18035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6175" y="21600"/>
                </a:lnTo>
                <a:cubicBezTo>
                  <a:pt x="15755" y="21600"/>
                  <a:pt x="15335" y="21150"/>
                  <a:pt x="15335" y="20700"/>
                </a:cubicBezTo>
                <a:lnTo>
                  <a:pt x="15335" y="18000"/>
                </a:lnTo>
                <a:close/>
              </a:path>
              <a:path fill="darkenLess"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0250"/>
                  <a:pt x="5845" y="19800"/>
                  <a:pt x="5425" y="19800"/>
                </a:cubicBezTo>
                <a:lnTo>
                  <a:pt x="4405" y="19800"/>
                </a:lnTo>
                <a:cubicBezTo>
                  <a:pt x="3985" y="19800"/>
                  <a:pt x="3565" y="19350"/>
                  <a:pt x="3565" y="18900"/>
                </a:cubicBezTo>
                <a:cubicBezTo>
                  <a:pt x="3565" y="18450"/>
                  <a:pt x="3985" y="18000"/>
                  <a:pt x="4405" y="18000"/>
                </a:cubicBezTo>
                <a:close/>
              </a:path>
              <a:path fill="darkenLess" w="21600" h="21600">
                <a:moveTo>
                  <a:pt x="15335" y="18000"/>
                </a:moveTo>
                <a:lnTo>
                  <a:pt x="15335" y="20700"/>
                </a:lnTo>
                <a:cubicBezTo>
                  <a:pt x="15335" y="20250"/>
                  <a:pt x="15755" y="19800"/>
                  <a:pt x="16175" y="19800"/>
                </a:cubicBezTo>
                <a:lnTo>
                  <a:pt x="17195" y="19800"/>
                </a:lnTo>
                <a:cubicBezTo>
                  <a:pt x="17615" y="19800"/>
                  <a:pt x="18035" y="19350"/>
                  <a:pt x="18035" y="18900"/>
                </a:cubicBezTo>
                <a:cubicBezTo>
                  <a:pt x="18035" y="18450"/>
                  <a:pt x="17615" y="18000"/>
                  <a:pt x="17195" y="18000"/>
                </a:cubicBezTo>
                <a:close/>
              </a:path>
              <a:path fill="darkenLess" w="21600" h="21600">
                <a:moveTo>
                  <a:pt x="3565" y="18900"/>
                </a:moveTo>
                <a:lnTo>
                  <a:pt x="3565" y="3600"/>
                </a:lnTo>
              </a:path>
              <a:path fill="darkenLess" w="21600" h="21600">
                <a:moveTo>
                  <a:pt x="18035" y="18900"/>
                </a:moveTo>
                <a:lnTo>
                  <a:pt x="18035" y="3600"/>
                </a:lnTo>
              </a:path>
            </a:pathLst>
          </a:custGeom>
          <a:solidFill>
            <a:srgbClr val="94f7d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Лента лицом вверх 3"/>
          <p:cNvSpPr/>
          <p:nvPr/>
        </p:nvSpPr>
        <p:spPr>
          <a:xfrm>
            <a:off x="500040" y="928800"/>
            <a:ext cx="8001000" cy="785880"/>
          </a:xfrm>
          <a:custGeom>
            <a:avLst/>
            <a:gdLst>
              <a:gd name="textAreaLeft" fmla="*/ 1320480 w 8001000"/>
              <a:gd name="textAreaRight" fmla="*/ 6680520 w 8001000"/>
              <a:gd name="textAreaTop" fmla="*/ 0 h 785880"/>
              <a:gd name="textAreaBottom" fmla="*/ 655200 h 785880"/>
            </a:gdLst>
            <a:ahLst/>
            <a:rect l="textAreaLeft" t="textAreaTop" r="textAreaRight" b="textAreaBottom"/>
            <a:pathLst>
              <a:path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1150"/>
                  <a:pt x="5845" y="21600"/>
                  <a:pt x="5425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3565" y="3600"/>
                </a:lnTo>
                <a:lnTo>
                  <a:pt x="3565" y="900"/>
                </a:lnTo>
                <a:cubicBezTo>
                  <a:pt x="3565" y="450"/>
                  <a:pt x="3985" y="0"/>
                  <a:pt x="4405" y="0"/>
                </a:cubicBezTo>
                <a:lnTo>
                  <a:pt x="17195" y="0"/>
                </a:lnTo>
                <a:cubicBezTo>
                  <a:pt x="17615" y="0"/>
                  <a:pt x="18035" y="450"/>
                  <a:pt x="18035" y="900"/>
                </a:cubicBezTo>
                <a:lnTo>
                  <a:pt x="18035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6175" y="21600"/>
                </a:lnTo>
                <a:cubicBezTo>
                  <a:pt x="15755" y="21600"/>
                  <a:pt x="15335" y="21150"/>
                  <a:pt x="15335" y="20700"/>
                </a:cubicBezTo>
                <a:lnTo>
                  <a:pt x="15335" y="18000"/>
                </a:lnTo>
                <a:close/>
              </a:path>
              <a:path fill="darkenLess"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0250"/>
                  <a:pt x="5845" y="19800"/>
                  <a:pt x="5425" y="19800"/>
                </a:cubicBezTo>
                <a:lnTo>
                  <a:pt x="4405" y="19800"/>
                </a:lnTo>
                <a:cubicBezTo>
                  <a:pt x="3985" y="19800"/>
                  <a:pt x="3565" y="19350"/>
                  <a:pt x="3565" y="18900"/>
                </a:cubicBezTo>
                <a:cubicBezTo>
                  <a:pt x="3565" y="18450"/>
                  <a:pt x="3985" y="18000"/>
                  <a:pt x="4405" y="18000"/>
                </a:cubicBezTo>
                <a:close/>
              </a:path>
              <a:path fill="darkenLess" w="21600" h="21600">
                <a:moveTo>
                  <a:pt x="15335" y="18000"/>
                </a:moveTo>
                <a:lnTo>
                  <a:pt x="15335" y="20700"/>
                </a:lnTo>
                <a:cubicBezTo>
                  <a:pt x="15335" y="20250"/>
                  <a:pt x="15755" y="19800"/>
                  <a:pt x="16175" y="19800"/>
                </a:cubicBezTo>
                <a:lnTo>
                  <a:pt x="17195" y="19800"/>
                </a:lnTo>
                <a:cubicBezTo>
                  <a:pt x="17615" y="19800"/>
                  <a:pt x="18035" y="19350"/>
                  <a:pt x="18035" y="18900"/>
                </a:cubicBezTo>
                <a:cubicBezTo>
                  <a:pt x="18035" y="18450"/>
                  <a:pt x="17615" y="18000"/>
                  <a:pt x="17195" y="18000"/>
                </a:cubicBezTo>
                <a:close/>
              </a:path>
              <a:path fill="darkenLess" w="21600" h="21600">
                <a:moveTo>
                  <a:pt x="3565" y="18900"/>
                </a:moveTo>
                <a:lnTo>
                  <a:pt x="3565" y="3600"/>
                </a:lnTo>
              </a:path>
              <a:path fill="darkenLess" w="21600" h="21600">
                <a:moveTo>
                  <a:pt x="18035" y="18900"/>
                </a:moveTo>
                <a:lnTo>
                  <a:pt x="18035" y="3600"/>
                </a:lnTo>
              </a:path>
            </a:pathLst>
          </a:custGeom>
          <a:solidFill>
            <a:srgbClr val="94f7d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856880" y="928800"/>
            <a:ext cx="5286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01 19 20 07 20  20 18 01 03 0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А С Т Ё Т   Т Р А В 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rcRect l="4294" t="65475" r="7156" b="11390"/>
          <a:stretch/>
        </p:blipFill>
        <p:spPr>
          <a:xfrm>
            <a:off x="642960" y="1928880"/>
            <a:ext cx="8039160" cy="2786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rcRect l="5204" t="5798" r="6053" b="63892"/>
          <a:stretch/>
        </p:blipFill>
        <p:spPr>
          <a:xfrm>
            <a:off x="2428920" y="714240"/>
            <a:ext cx="6286320" cy="28479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"/>
          <p:cNvPicPr/>
          <p:nvPr/>
        </p:nvPicPr>
        <p:blipFill>
          <a:blip r:embed="rId2"/>
          <a:srcRect l="5194" t="65475" r="6810" b="11390"/>
          <a:stretch/>
        </p:blipFill>
        <p:spPr>
          <a:xfrm>
            <a:off x="785880" y="3429000"/>
            <a:ext cx="7929360" cy="2765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j0404643"/>
          <p:cNvPicPr/>
          <p:nvPr/>
        </p:nvPicPr>
        <p:blipFill>
          <a:blip r:embed="rId3"/>
          <a:stretch/>
        </p:blipFill>
        <p:spPr>
          <a:xfrm>
            <a:off x="357120" y="1500120"/>
            <a:ext cx="1924200" cy="1677960"/>
          </a:xfrm>
          <a:prstGeom prst="rect">
            <a:avLst/>
          </a:prstGeom>
          <a:ln w="0">
            <a:noFill/>
          </a:ln>
        </p:spPr>
      </p:pic>
      <p:sp>
        <p:nvSpPr>
          <p:cNvPr id="384" name="TextBox 4"/>
          <p:cNvSpPr/>
          <p:nvPr/>
        </p:nvSpPr>
        <p:spPr>
          <a:xfrm>
            <a:off x="3571920" y="200016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О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6"/>
          <p:cNvSpPr/>
          <p:nvPr/>
        </p:nvSpPr>
        <p:spPr>
          <a:xfrm>
            <a:off x="5429160" y="200016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О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7"/>
          <p:cNvSpPr/>
          <p:nvPr/>
        </p:nvSpPr>
        <p:spPr>
          <a:xfrm>
            <a:off x="7286760" y="198756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И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8"/>
          <p:cNvSpPr/>
          <p:nvPr/>
        </p:nvSpPr>
        <p:spPr>
          <a:xfrm>
            <a:off x="3500280" y="3000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Х Л Е 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9"/>
          <p:cNvSpPr/>
          <p:nvPr/>
        </p:nvSpPr>
        <p:spPr>
          <a:xfrm>
            <a:off x="5286240" y="3000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З Н 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0"/>
          <p:cNvSpPr/>
          <p:nvPr/>
        </p:nvSpPr>
        <p:spPr>
          <a:xfrm>
            <a:off x="6929280" y="3000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З В У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9dd9"/>
                </a:solidFill>
                <a:latin typeface="Constantia"/>
              </a:rPr>
              <a:t>Минутка отдыха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Овал 1"/>
          <p:cNvGrpSpPr/>
          <p:nvPr/>
        </p:nvGrpSpPr>
        <p:grpSpPr>
          <a:xfrm>
            <a:off x="2852640" y="1749600"/>
            <a:ext cx="792360" cy="860400"/>
            <a:chOff x="2852640" y="1749600"/>
            <a:chExt cx="792360" cy="860400"/>
          </a:xfrm>
        </p:grpSpPr>
        <p:pic>
          <p:nvPicPr>
            <p:cNvPr id="393" name="Овал 1" descr=""/>
            <p:cNvPicPr/>
            <p:nvPr/>
          </p:nvPicPr>
          <p:blipFill>
            <a:blip r:embed="rId1"/>
            <a:stretch/>
          </p:blipFill>
          <p:spPr>
            <a:xfrm>
              <a:off x="2852640" y="1749600"/>
              <a:ext cx="79236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3022560" y="1890720"/>
              <a:ext cx="45576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521 0.16998 C 0.31129 0.02336 0.23629 -0.10384 0.13577 -0.11263 C 0.03959 -0.1235 -0.05017 -0.02474 -0.05625 0.11772 C -0.06371 0.24884 -0.000689999999999996 0.37188 0.08941 0.38067 C 0.1717 0.38714 0.24983 0.30527 0.25573 0.1834 C 0.26181 0.07169 0.2092 -0.03353 0.13281 -0.04278 C 0.06233 -0.04903 -0.00382 0.0192 -0.00833 0.12188 C -0.01267 0.21369 0.02917 0.30342 0.09219 0.30805 C 0.14931 0.31452 0.20313 0.26203 0.20781 0.17877 C 0.21077 0.1043 0.17917 0.03215 0.12969 0.02798 C 0.08629 0.02336 0.04271 0.06291 0.03959 0.1265 C 0.03681 0.18108 0.0592 0.23358 0.09531 0.23821 C 0.12535 0.24237 0.15677 0.21832 0.15834 0.17461 C 0.16129 0.13922 0.14931 0.10199 0.12691 0.09783 C 0.10868 0.09783 0.09063 0.10662 0.08785 0.13067 C 0.08629 0.14616 0.08941 0.16143 0.09827 0.1679 C 0.10261 0.16998 0.10573 0.16998 0.11025 0.1679 E">
                                      <p:cBhvr>
                                        <p:cTn id="80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7:35:54Z</dcterms:created>
  <dc:creator>1</dc:creator>
  <dc:description/>
  <dc:language>en-US</dc:language>
  <cp:lastModifiedBy>Пользователь</cp:lastModifiedBy>
  <dcterms:modified xsi:type="dcterms:W3CDTF">2012-10-24T04:41:13Z</dcterms:modified>
  <cp:revision>19</cp:revision>
  <dc:subject/>
  <dc:title>Декодирование информации</dc:title>
</cp:coreProperties>
</file>